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466-E5A9-4D53-8854-FC0F0EE7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088-5472-4340-97E8-7EEFACDB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AB60-87FB-4073-895C-7C76B912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054-539B-4E74-9C0B-C18F4868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1CF7-5ADC-4B21-98B3-6A91929A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89D-6E37-4FD4-9CD0-6BCC8839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04F9-BDAD-4180-896B-EA714AA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C00-FEB2-4F07-BE2A-BAFC046B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B2B-F707-4C01-B235-9891C6F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6567-4B79-4F50-8D40-3A0238D6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A07-CBE7-494B-8DFA-4DA3F5E6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4AF-573A-4FD5-8696-F2DE2FE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CD77-4F91-47D3-A7F1-E41E33F8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Creative Handicrafts from Recycled Materia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5053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Unit Portfolio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me Cyrene Samb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therine Jean Maba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1523880"/>
            <a:ext cx="80010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ilippians 4: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can do all things through Christ who gives me strength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nd =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unit will improve a child’s skills in innovating creative and useful products coming from recycled materials to ensure child’s environmental awareness.  They will create handmade products for the purpose of nurturing self-independence and creativity.  Their products could also be an avenue for business ven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mportance of responsi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we need to recycl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we innovatively create useful products from recycled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biodegradable and non-biodegradable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recycled materi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we create artistic materials from recycled materia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Students Wi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borate with peers and community members through 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product that shows what they’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 innovating creative and useful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child’s environmental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eative Handicraft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oject will help my students develop 2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entury skills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ng with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biodegradable materials from non-biodegradable materi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rtistic products from recycled materi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with others through s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will use my Essential and Unit Question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out children’s ideas about the importance of reusing materials to help ou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her information on biodegradable and non-biodegradable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useful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21st Century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to create artistic products from recycled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auging Student Needs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e will learn from th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pupils think about the importance of recycl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ur pupils think are the importance of discipline, hard work, and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our pupils will gain from the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upils don’t know what product to create, we can provide examples from various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ur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ways to get our pupils more interested in learning new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about different kinds of technology we and our pupils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ideas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est for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ways to help children to understand the value of discipline, hard work and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or helping children take more responsibility for their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8:41:54Z</dcterms:created>
  <dc:creator>nave1386</dc:creator>
  <dc:description/>
  <dc:language>en-US</dc:language>
  <cp:lastModifiedBy>nave1386</cp:lastModifiedBy>
  <dcterms:modified xsi:type="dcterms:W3CDTF">2010-09-21T08:51:18Z</dcterms:modified>
  <cp:revision>15</cp:revision>
  <dc:subject/>
  <dc:title>Creative Handicrafts from Recycled Materials </dc:title>
</cp:coreProperties>
</file>